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848-462A-4053-B45A-73C9618F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BAB-82C5-46EA-85C4-A7EF09AF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65A-4464-4171-A7D3-1778D565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CE3-F976-4DA7-9F77-C16BD191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F9E5-5D97-4BFB-902A-ADA6741E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62FB-4956-4F52-8A1F-2EF1DBB2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8335-E6E8-4757-A606-88F2F87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E943-5F21-4B98-8F5D-AD26B2E1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81FE-EA24-4A73-A510-CA481D01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54A0-55D2-4548-99DF-EACAA6FE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12FF-0906-422F-AEAC-8C1AA5C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E1A-F69E-43DE-A8CE-707933C4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5D62-A3F8-48B8-A37B-B47882C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33C2-13E3-4653-AD5A-E567C994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6DD2-067B-4C2E-B7DF-5E455EB6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9400-A7FC-44C9-BE6D-99F04CCF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ADE8-B734-426E-9A3E-33D78422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6AD91-945D-403A-9841-76368F0F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35E1B-4E85-4BBF-A1DD-F02FBA5C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ABB1C-50BC-49E9-8FB1-CF8DC7C1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A95C1-8A2F-433A-86E8-278B5143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8B8EA-EA67-45F5-82D7-15BECC05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A61-84AC-466D-9827-174B1D2F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A4BAC-1622-46B9-9297-8B148F13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880A3-8BB2-4D76-A4E0-BFCBD43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1DE69-A8DA-4EE8-84DF-23098F6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F8C44-79E4-4BFB-9AF4-04BF705C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812B9-B299-4CA0-BA3C-9CFCCBBB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17384-2354-4143-9116-F6503D67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0FF1F-29CE-4B08-BEA5-F5C171FE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461CB-72A4-4DFB-A0AB-A9063122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0ACB0-A0C1-47E5-ABD3-5A29F4BA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36E17-9156-47B7-B248-5E604245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A17-35BA-4FA3-80C8-80EB962E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2FC48-4F4A-4927-AA16-48404853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44DBA-C069-4C81-8441-333B0CCF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87EC9-E034-484F-B584-BB8B65B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26DC3-8C8B-4EE8-A4ED-97847B3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1D7F9-DE71-47AF-B0C1-0345059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D9FFE-C451-4EA0-9CBC-4197DBF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16887-0D02-44A5-A089-1B000D43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C5BE7-7F39-4ECD-8C25-34527236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F1070-7F45-4344-ABD1-DFBC9DA8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A3483-57C4-45ED-BB07-83873D11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BE9-3317-453A-AA9A-45016B20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C8CDA-1CD7-4EEB-B454-E9EBBD01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01A1A-9746-4DFC-9CDA-47046C2F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3ABDF-73A1-4129-B480-0FC679C7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2DE0F-3B1F-4765-9976-53431461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41F43-FD29-4994-8C2B-7E1B2473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DCE67-25CD-4C95-BE23-55814B16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FE60C-20B2-4CE1-AEB1-0C0A4486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4AF87-085F-4F87-8447-2BD1B3F9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317BF-4D22-4617-BF6B-1267F323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897B5-593C-4ABA-B90F-58812A5D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DF5-D065-4E38-83B7-2BFADDFE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5DECC-D0C0-4925-AC2C-497FFCD6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912AF-B831-48EA-AEBC-66D0F608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F6467-FAB2-4282-B72D-4828D7D7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4AE57-4178-49A3-AF60-8F605485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A5DC1-9071-4728-9026-E8FA2A2E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3FFAF-5E12-4A2A-8307-7A407D91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20E8-3A78-4361-9B18-BBDC0477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F8171-09C4-49CF-8E00-8BD26D3F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0A24-1656-4BDA-A026-C423BBB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3EAA2-21A6-4236-9A28-6794CB51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C5C-455B-4495-8718-1DAFF68E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194EC-AD60-4E58-A590-F8996655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21274-0313-486F-A21A-B4BCF123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E7816-8BB7-4DE2-8385-F5201DED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E4F01-DFCC-4E30-9A39-7FFC7D4B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D2F0F-502E-45C1-8E1D-CE0D41F7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15910-A696-4002-ADB7-DB1C6913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5DBF0-6CED-4C16-A7F6-A72828CE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E5325-BC07-4ECD-8128-274F0E3E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2FB25-C76E-43F0-94F0-288B3B53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E864F-F2D2-45ED-A1E7-4E57A52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6BF-383D-4D98-974D-D82AE8DD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C5776-4B96-4952-AF17-95E2D97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0870E-81DE-4032-8679-0CF2DC5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D0181-4363-492E-8641-81C61EF2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F44993-AD3B-4957-A940-DACD05D5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F5914-E874-4E06-8B80-E7D8B6EC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7568-061D-4974-BE61-4186D8AA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23193-9E73-4155-9490-07C8AAAF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9CD0A-6893-4559-9C7D-B826A5A4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3A067-858E-46CA-BFFB-FB7F916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67FE9-4F04-4B74-9E50-624C5A4B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29F-92EB-44C4-97F2-C942B60F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D9FF5-BE64-480D-A2B2-1F2B6BF6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7E6B8-ED8E-4A66-832E-81F5357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7AF49-878E-4660-8D01-9B67C11D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A5E8C-AA4C-4D82-8FF9-8535CDA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D5504-B89B-4F1F-B494-5B831DE3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B2B47-747A-4941-8401-AA294CC2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44553-A10A-4ACC-8608-269007C3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7A68-9F4E-4ED4-A634-84B95A63D7E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7645-63A0-4B72-8039-91740D9C2D26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FFDD-9A73-4068-BD7F-DFC866926CB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9D60-6E3E-4FB9-BF38-85BE431A9D2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F7B0-EB29-4F5C-99E1-54A61D493AB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E85B-C6AF-4686-BD2B-D963FFF107E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B0FD-518F-4E76-AF83-93E50E354EC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0AFB-FEC3-44AF-98C5-B8248CA4EC7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ay 178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onstitutional Conven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1676520" y="152280"/>
            <a:ext cx="5105160" cy="6477120"/>
          </a:xfrm>
          <a:prstGeom prst="rect">
            <a:avLst/>
          </a:prstGeom>
          <a:solidFill>
            <a:srgbClr val="00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1905120" y="380880"/>
            <a:ext cx="4495680" cy="59436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://www.english.udel.edu/lemay/franklin/homepage.jpg"/>
          <p:cNvPicPr/>
          <p:nvPr/>
        </p:nvPicPr>
        <p:blipFill>
          <a:blip r:embed="rId1"/>
          <a:srcRect l="0" t="0" r="0" b="93766"/>
          <a:stretch/>
        </p:blipFill>
        <p:spPr>
          <a:xfrm>
            <a:off x="1981080" y="533520"/>
            <a:ext cx="3048120" cy="380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http://www.english.udel.edu/lemay/franklin/revolutionary.gif"/>
          <p:cNvPicPr/>
          <p:nvPr/>
        </p:nvPicPr>
        <p:blipFill>
          <a:blip r:embed="rId2"/>
          <a:stretch/>
        </p:blipFill>
        <p:spPr>
          <a:xfrm>
            <a:off x="4952880" y="457200"/>
            <a:ext cx="1381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ten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e a journal entry or blog your from your delega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e Facebook page for delega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lony: Delega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2971800" y="15238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 Bald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228600" y="3200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Ells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Sh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228600" y="495288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nuing Bedford J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Dick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6"/>
          <p:cNvSpPr/>
          <p:nvPr/>
        </p:nvSpPr>
        <p:spPr>
          <a:xfrm>
            <a:off x="228600" y="15238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bridge G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2971800" y="31240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cHen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2971800" y="49528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Lang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l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6172200" y="15238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Patt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Brea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1"/>
          <p:cNvSpPr/>
          <p:nvPr/>
        </p:nvSpPr>
        <p:spPr>
          <a:xfrm>
            <a:off x="6172200" y="3048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Hami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Y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6248520" y="4876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h Willia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4"/>
          <p:cNvSpPr/>
          <p:nvPr/>
        </p:nvSpPr>
        <p:spPr>
          <a:xfrm>
            <a:off x="152280" y="38862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uverneor Mor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4"/>
          <p:cNvSpPr/>
          <p:nvPr/>
        </p:nvSpPr>
        <p:spPr>
          <a:xfrm>
            <a:off x="304920" y="16765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a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5"/>
          <p:cNvSpPr/>
          <p:nvPr/>
        </p:nvSpPr>
        <p:spPr>
          <a:xfrm>
            <a:off x="3809880" y="16765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Rut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i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t the Work Begi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2590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George Washingto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s elected the lead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is job was to keep the meeting orderly &amp; effectiv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Content Placeholder 2"/>
          <p:cNvSpPr/>
          <p:nvPr/>
        </p:nvSpPr>
        <p:spPr>
          <a:xfrm>
            <a:off x="533520" y="43434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Ru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Each state was given one v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Any delegate could voice than opin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All proceedings would be kept secret until finis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http://www.congressforkids.net/images/unclesam_workbegins.gif"/>
          <p:cNvPicPr/>
          <p:nvPr/>
        </p:nvPicPr>
        <p:blipFill>
          <a:blip r:embed="rId1"/>
          <a:stretch/>
        </p:blipFill>
        <p:spPr>
          <a:xfrm>
            <a:off x="6400800" y="304920"/>
            <a:ext cx="22860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rginia Plan – Edmund Randolp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i-cameral ho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sed on population or money contribu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Garamond Pro Bold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4" descr="http://wzus1.ask.com/r?t=a&amp;d=us&amp;s=a&amp;c=p&amp;ti=1&amp;ai=30751&amp;l=dir&amp;o=0&amp;sv=0a5c4074&amp;ip=b8585782&amp;u=http%3A%2F%2Fwww.britishempire.co.uk%2Fimages2%2F13colonies.jpg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689360"/>
          </a:xfrm>
          <a:prstGeom prst="rect">
            <a:avLst/>
          </a:prstGeom>
          <a:ln w="0">
            <a:noFill/>
          </a:ln>
        </p:spPr>
      </p:pic>
      <p:sp>
        <p:nvSpPr>
          <p:cNvPr id="401" name="TextBox 5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28220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31240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0"/>
          <p:cNvSpPr/>
          <p:nvPr/>
        </p:nvSpPr>
        <p:spPr>
          <a:xfrm>
            <a:off x="994320" y="3200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2"/>
          <p:cNvSpPr/>
          <p:nvPr/>
        </p:nvSpPr>
        <p:spPr>
          <a:xfrm>
            <a:off x="609480" y="4800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20574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4"/>
          <p:cNvSpPr/>
          <p:nvPr/>
        </p:nvSpPr>
        <p:spPr>
          <a:xfrm>
            <a:off x="1600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6104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w Jersey Plan – William Patterson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e-house legislature base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atives selected by state le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e vote per s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Garamond Pro Bold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4" descr="http://wzus1.ask.com/r?t=a&amp;d=us&amp;s=a&amp;c=p&amp;ti=1&amp;ai=30751&amp;l=dir&amp;o=0&amp;sv=0a5c4074&amp;ip=b8585782&amp;u=http%3A%2F%2Fwww.britishempire.co.uk%2Fimages2%2F13colonies.jpg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6893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5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7"/>
          <p:cNvSpPr/>
          <p:nvPr/>
        </p:nvSpPr>
        <p:spPr>
          <a:xfrm>
            <a:off x="28220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9"/>
          <p:cNvSpPr/>
          <p:nvPr/>
        </p:nvSpPr>
        <p:spPr>
          <a:xfrm>
            <a:off x="31240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0"/>
          <p:cNvSpPr/>
          <p:nvPr/>
        </p:nvSpPr>
        <p:spPr>
          <a:xfrm>
            <a:off x="99324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609480" y="4800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20574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4"/>
          <p:cNvSpPr/>
          <p:nvPr/>
        </p:nvSpPr>
        <p:spPr>
          <a:xfrm>
            <a:off x="1600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eat Comprom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00240" y="2971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NETICU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oger Sherma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2" name="Picture 2" descr="http://www.congressforkids.net/images/unclesam_wrestling.gif"/>
          <p:cNvPicPr/>
          <p:nvPr/>
        </p:nvPicPr>
        <p:blipFill>
          <a:blip r:embed="rId1"/>
          <a:stretch/>
        </p:blipFill>
        <p:spPr>
          <a:xfrm>
            <a:off x="5105520" y="-8380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branches.jpg (41293 bytes)"/>
          <p:cNvPicPr/>
          <p:nvPr/>
        </p:nvPicPr>
        <p:blipFill>
          <a:blip r:embed="rId2"/>
          <a:srcRect l="0" t="19262" r="65425" b="-2215"/>
          <a:stretch/>
        </p:blipFill>
        <p:spPr>
          <a:xfrm>
            <a:off x="762120" y="1752480"/>
            <a:ext cx="2819160" cy="4114800"/>
          </a:xfrm>
          <a:prstGeom prst="rect">
            <a:avLst/>
          </a:prstGeom>
          <a:ln w="0">
            <a:noFill/>
          </a:ln>
        </p:spPr>
      </p:pic>
      <p:cxnSp>
        <p:nvCxnSpPr>
          <p:cNvPr id="424" name="Straight Arrow Connector 9"/>
          <p:cNvCxnSpPr/>
          <p:nvPr/>
        </p:nvCxnSpPr>
        <p:spPr>
          <a:xfrm>
            <a:off x="3581280" y="5715000"/>
            <a:ext cx="457920" cy="4579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5" name="TextBox 10"/>
          <p:cNvSpPr/>
          <p:nvPr/>
        </p:nvSpPr>
        <p:spPr>
          <a:xfrm>
            <a:off x="3200400" y="648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2 per state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12"/>
          <p:cNvCxnSpPr/>
          <p:nvPr/>
        </p:nvCxnSpPr>
        <p:spPr>
          <a:xfrm flipH="1">
            <a:off x="608760" y="5562720"/>
            <a:ext cx="381960" cy="7624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14"/>
          <p:cNvSpPr/>
          <p:nvPr/>
        </p:nvSpPr>
        <p:spPr>
          <a:xfrm>
            <a:off x="0" y="648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Virginia and New Jersey stand down to compromise"/>
          <p:cNvPicPr/>
          <p:nvPr/>
        </p:nvPicPr>
        <p:blipFill>
          <a:blip r:embed="rId1"/>
          <a:stretch/>
        </p:blipFill>
        <p:spPr>
          <a:xfrm>
            <a:off x="457200" y="914400"/>
            <a:ext cx="3502080" cy="4572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http://www.regentsprep.org/Regents/ushisgov/themes/government/gr_comp2.gif"/>
          <p:cNvPicPr/>
          <p:nvPr/>
        </p:nvPicPr>
        <p:blipFill>
          <a:blip r:embed="rId2"/>
          <a:stretch/>
        </p:blipFill>
        <p:spPr>
          <a:xfrm>
            <a:off x="4572000" y="1219320"/>
            <a:ext cx="41911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3/5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th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Comprom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28240" y="1828800"/>
            <a:ext cx="4111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laves could not vot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laves would count for three-fifths of a person for determining both representation and taxation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2" name="Picture 2" descr="http://www.regentsprep.org/Regents/ushisgov/themes/government/three_fifths_comp2.gif"/>
          <p:cNvPicPr/>
          <p:nvPr/>
        </p:nvPicPr>
        <p:blipFill>
          <a:blip r:embed="rId1"/>
          <a:stretch/>
        </p:blipFill>
        <p:spPr>
          <a:xfrm>
            <a:off x="4419720" y="2362320"/>
            <a:ext cx="41907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hay’s Rebell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Picture 2" descr="Shay's Rebellion"/>
          <p:cNvPicPr/>
          <p:nvPr/>
        </p:nvPicPr>
        <p:blipFill>
          <a:blip r:embed="rId1"/>
          <a:stretch/>
        </p:blipFill>
        <p:spPr>
          <a:xfrm>
            <a:off x="1523880" y="16002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gning of the Constit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1920" y="21337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overnor Morris of New Jersey put the Constitution in its final form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e competed the task of hand-writing 4,300 words in two day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Constitution was signed by 39 of the 55 delegates on September 17, 1787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5" name="Picture 4" descr="http://www.congressforkids.net/images/wethepeopleunclesam.jpg"/>
          <p:cNvPicPr/>
          <p:nvPr/>
        </p:nvPicPr>
        <p:blipFill>
          <a:blip r:embed="rId1"/>
          <a:srcRect l="15806" t="0" r="9143" b="0"/>
          <a:stretch/>
        </p:blipFill>
        <p:spPr>
          <a:xfrm>
            <a:off x="6400800" y="152280"/>
            <a:ext cx="25146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atifying the Constit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4648320"/>
            <a:ext cx="81536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The Federalist Paper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85 essays supporting the ratification of the Constitu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40960" indent="-210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lexander Hamilton, James Madison, and John Ja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40960" indent="-210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8" name="Picture 2" descr="http://www.congressforkids.net/images/ratifyingconst.jpg"/>
          <p:cNvPicPr/>
          <p:nvPr/>
        </p:nvPicPr>
        <p:blipFill>
          <a:blip r:embed="rId1"/>
          <a:srcRect l="7160" t="13171" r="7903" b="0"/>
          <a:stretch/>
        </p:blipFill>
        <p:spPr>
          <a:xfrm>
            <a:off x="5867280" y="457200"/>
            <a:ext cx="3276720" cy="2009880"/>
          </a:xfrm>
          <a:prstGeom prst="rect">
            <a:avLst/>
          </a:prstGeom>
          <a:ln w="0">
            <a:noFill/>
          </a:ln>
        </p:spPr>
      </p:pic>
      <p:sp>
        <p:nvSpPr>
          <p:cNvPr id="439" name="Content Placeholder 2"/>
          <p:cNvSpPr/>
          <p:nvPr/>
        </p:nvSpPr>
        <p:spPr>
          <a:xfrm>
            <a:off x="609480" y="2514600"/>
            <a:ext cx="8153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Federal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Those who supported the new Co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atifying the Constit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1" name="Picture 2" descr="http://www.harwich.edu/depts/history/pp/Confed%20and%20Const/img046.JPG"/>
          <p:cNvPicPr/>
          <p:nvPr/>
        </p:nvPicPr>
        <p:blipFill>
          <a:blip r:embed="rId1"/>
          <a:stretch/>
        </p:blipFill>
        <p:spPr>
          <a:xfrm>
            <a:off x="457200" y="2133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http://www.harwich.edu/depts/history/pp/Confed%20and%20Const/img042.JPG"/>
          <p:cNvPicPr/>
          <p:nvPr/>
        </p:nvPicPr>
        <p:blipFill>
          <a:blip r:embed="rId2"/>
          <a:stretch/>
        </p:blipFill>
        <p:spPr>
          <a:xfrm>
            <a:off x="4724280" y="2514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ll of Righ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0520" y="2362320"/>
            <a:ext cx="81536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ti – Federal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legates who refused to ratify the Constitu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Content Placeholder 2"/>
          <p:cNvSpPr/>
          <p:nvPr/>
        </p:nvSpPr>
        <p:spPr>
          <a:xfrm>
            <a:off x="457200" y="39625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ames Madis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wrote 12 amendments/ ten were ap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http://www.congressforkids.net/images/billofrights.jpg"/>
          <p:cNvPicPr/>
          <p:nvPr/>
        </p:nvPicPr>
        <p:blipFill>
          <a:blip r:embed="rId1"/>
          <a:stretch/>
        </p:blipFill>
        <p:spPr>
          <a:xfrm>
            <a:off x="4800600" y="533520"/>
            <a:ext cx="3857760" cy="2314440"/>
          </a:xfrm>
          <a:prstGeom prst="rect">
            <a:avLst/>
          </a:prstGeom>
          <a:ln w="0">
            <a:noFill/>
          </a:ln>
        </p:spPr>
      </p:pic>
      <p:sp>
        <p:nvSpPr>
          <p:cNvPr id="447" name="Content Placeholder 2"/>
          <p:cNvSpPr/>
          <p:nvPr/>
        </p:nvSpPr>
        <p:spPr>
          <a:xfrm>
            <a:off x="457200" y="54864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ill of Righ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  <a:ea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ten amendment to the Co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C21.png"/>
          <p:cNvPicPr/>
          <p:nvPr/>
        </p:nvPicPr>
        <p:blipFill>
          <a:blip r:embed="rId1"/>
          <a:srcRect l="0" t="9543" r="0" b="0"/>
          <a:stretch/>
        </p:blipFill>
        <p:spPr>
          <a:xfrm>
            <a:off x="0" y="304920"/>
            <a:ext cx="885492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50" name="Picture 2" descr="CC2.png"/>
          <p:cNvPicPr/>
          <p:nvPr/>
        </p:nvPicPr>
        <p:blipFill>
          <a:blip r:embed="rId1"/>
          <a:srcRect l="0" t="10541" r="0" b="0"/>
          <a:stretch/>
        </p:blipFill>
        <p:spPr>
          <a:xfrm>
            <a:off x="838080" y="1501920"/>
            <a:ext cx="78724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stitutional Conven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y 1787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hiladelphia, Pennsylvani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2 of the 13 states were present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hode Island refused to send a delegate because it was afraid of losing its states' right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orked for 4 months behind closed doors of the State House to draft a new document known later as the "Constitution."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2" descr="http://www.congressforkids.net/images/unclesam_statehouse.jpg"/>
          <p:cNvPicPr/>
          <p:nvPr/>
        </p:nvPicPr>
        <p:blipFill>
          <a:blip r:embed="rId1"/>
          <a:stretch/>
        </p:blipFill>
        <p:spPr>
          <a:xfrm>
            <a:off x="4699080" y="2362320"/>
            <a:ext cx="4444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riting the Constitu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nstitutional Convention met for 4 months. The 55 delegates were seldom all together at once because the weather was bad and travel was difficul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bout 35 delegates were present during the process of writing the Constitu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http://www.congressforkids.net/images/writconstitution.jpg"/>
          <p:cNvPicPr/>
          <p:nvPr/>
        </p:nvPicPr>
        <p:blipFill>
          <a:blip r:embed="rId1"/>
          <a:stretch/>
        </p:blipFill>
        <p:spPr>
          <a:xfrm>
            <a:off x="5937120" y="225360"/>
            <a:ext cx="32133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stitutional Convention Invi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0" y="8380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sign an invitation that will be sent to prospective delegates to the Constitutional Conv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invitation should include information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Extend an invitation to all delegates of the 13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State the purpose of the convention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Revising of the Articles of Con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: May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1787 –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: Pennsylvania State House, Philadelphia,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ome of the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“famous attende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” – who will be invi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G. Washington, T. Jefferson, B. Franklin, J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What will be accomplish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3" name="Content Placeholder 3" descr="invite1.jpg"/>
          <p:cNvPicPr/>
          <p:nvPr/>
        </p:nvPicPr>
        <p:blipFill>
          <a:blip r:embed="rId1"/>
          <a:stretch/>
        </p:blipFill>
        <p:spPr>
          <a:xfrm>
            <a:off x="228600" y="1752480"/>
            <a:ext cx="4765680" cy="4496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invite2.jpg"/>
          <p:cNvPicPr/>
          <p:nvPr/>
        </p:nvPicPr>
        <p:blipFill>
          <a:blip r:embed="rId2"/>
          <a:stretch/>
        </p:blipFill>
        <p:spPr>
          <a:xfrm>
            <a:off x="5257800" y="380880"/>
            <a:ext cx="360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Content Placeholder 3" descr="invite3.jpg"/>
          <p:cNvPicPr/>
          <p:nvPr/>
        </p:nvPicPr>
        <p:blipFill>
          <a:blip r:embed="rId1"/>
          <a:stretch/>
        </p:blipFill>
        <p:spPr>
          <a:xfrm>
            <a:off x="0" y="2362320"/>
            <a:ext cx="5573880" cy="4495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invite4.jpg"/>
          <p:cNvPicPr/>
          <p:nvPr/>
        </p:nvPicPr>
        <p:blipFill>
          <a:blip r:embed="rId2"/>
          <a:stretch/>
        </p:blipFill>
        <p:spPr>
          <a:xfrm>
            <a:off x="4700520" y="0"/>
            <a:ext cx="44434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stitutional Convention Car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1523880"/>
            <a:ext cx="91440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on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ccup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g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ttended the Continental Convention     YES      N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al: 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was known for __ at the Constitu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deralist                            Anti- federal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reate a Nameta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33520" y="1447560"/>
            <a:ext cx="81532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O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a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lo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rsonal Desig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365760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Federalist vs. Anti Feder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ntent Placeholder 2"/>
          <p:cNvSpPr/>
          <p:nvPr/>
        </p:nvSpPr>
        <p:spPr>
          <a:xfrm>
            <a:off x="457200" y="53341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SID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1-2 unique things about your fra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2:01:02Z</dcterms:created>
  <dc:creator>Daniel F. Lyonnais</dc:creator>
  <dc:description/>
  <dc:language>en-US</dc:language>
  <cp:lastModifiedBy>hmhendri</cp:lastModifiedBy>
  <dcterms:modified xsi:type="dcterms:W3CDTF">2011-10-30T14:57:16Z</dcterms:modified>
  <cp:revision>14</cp:revision>
  <dc:subject/>
  <dc:title>Constitutional Convention</dc:title>
</cp:coreProperties>
</file>